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2F4AA-E977-4CE0-BE1A-6BCAD7B82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F7422-FBA0-44CC-80DF-0F7C4476E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BB32B-F0AA-41C9-97CB-152FEA034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DB7CA-B004-4342-AACE-E9CA2F69B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8D5B0-87AA-49A9-B689-0C9A96A28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557F-1B54-48F8-A631-E41FD1D54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DD94D-E7F7-4036-B82A-2A60C6992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2445A-8A2B-4445-8578-674B84D92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69FF5-BB5F-407E-ACA7-2DC4727F6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CA8A3-FCDA-4F49-970D-884862140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807B-3680-480A-A1FA-D023F076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F54B7-5125-41DB-B310-3B653A96C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1420-575B-4461-9D97-2C9D33BA6D2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nd Climate</a:t>
            </a:r>
            <a:endParaRPr b="0" lang="en-US" sz="4400" spc="-1" strike="noStrike">
              <a:solidFill>
                <a:srgbClr val="ffff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acala and Socolo’s wedge strategy (Science, 2004) breaks up the big problem of climate stabilization in to manageable pieces. They identify 15 approaches to move from business as usual to stabilized CO2 emissions in the period 2004 to 2054. By 2054 the 15 wedges need to total 7 gigatonnes of CO2 not produced; ie about 500 million tones per year per wedge. Class exercise: Guess the 15 wedges!</a:t>
            </a:r>
            <a:endParaRPr b="0" lang="en-US" sz="1600" spc="-1" strike="noStrike">
              <a:solidFill>
                <a:srgbClr val="ffff99"/>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99"/>
                </a:solidFill>
                <a:latin typeface="Times New Roman"/>
              </a:rPr>
              <a:t>Lester Brown’s targets are much more ambitious, based on his opinion of the need to stabilize CO2 concentrations at 350 ppm. Many climate scientists believe that this will result in about a 2 C rise in global temperature and that that is the maximum we can risk without runaway climate change. As a first step Plan B tells us to have a maximum target of 400 ppm by 2020. Class exercise: integrate the Plan B targets onto the Pacala and Socolo wedge graph.</a:t>
            </a:r>
            <a:r>
              <a:rPr b="0" lang="en-US" sz="800" spc="-1" strike="noStrike">
                <a:solidFill>
                  <a:srgbClr val="ffff99"/>
                </a:solidFill>
                <a:latin typeface="Times New Roman"/>
              </a:rPr>
              <a:t> </a:t>
            </a:r>
            <a:endParaRPr b="0" lang="en-US" sz="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lan B identifies a range of potential energy efficiency gains based on existing technologies. These are in lighting, electric appliances, zero carbon buildings, transport electrification, the production, processing and disposal of materials, and smarter grids, appliances and consumers.</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One key route to making this ambitious plan actualize would be government policy and legislation. There are many simple, practical possibilities, eg. Australia’s ban on incandescent light bulb sales by 2010. Most important would be a Carbon Tax. Plan B recommends a high rate of $200 phased in over 10 years. In theory the tax level should be pitched at the social cost of carbon (SCC). The SCC is very difficult to estimate due to climate change uncertainties. SCC calculations range from $2 to $1500 per carbon ton. Finland’s carbon tax is at $90 and Sweden’s is $150 leading to a big switch to biomass district heating. It’s important not to set it too high as CO2 isn’t the only problem in the world.</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Resources: The McKinsey Abatement Curve (see slide) highlights the low hanging fruit, many of which are the demand side efficiencies talked about in Plan B Ch 4.</a:t>
            </a:r>
            <a:endParaRPr b="0" lang="en-US" sz="1600" spc="-1" strike="noStrike">
              <a:solidFill>
                <a:srgbClr val="ffff99"/>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Current electricity demand globally was about 18,000 gigawatts in 2006 and is forecast to rise to about 25,000 gigawatts in 2020. (US Energy Information Administration website). US totals: 2008 1,100 gigawatts, and 2020 1,500 gigawatts. See global electricity chart and Carbon footprint chart.</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Lester Brown’s center piece thought is to bring in wind and get rid of coal, including for electricity for transport. The preference for wind is born out by environmental studies. (See Jacobson, Stanford bookmark). The idea of phasing out coal as soon as possible is strongly endorsed by Dr James Hansen and many top climate scientists. See also slide of relative carbon footprints of different electricity sources and water for energy slide.</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There are many types of solar energy devices with two main categories: Photovoltaics and Thermal collectors. The latter includes many possibilities: Passive solar, Solar water heaters, Thermal mass collectors, Solar chimneys, Concentrated solar power (CSP), Solar driven heat pumps including Evacuated glass tubes and closed loop systems (Circulating water + antifreeze).</a:t>
            </a:r>
            <a:br>
              <a:rPr sz="1000"/>
            </a:br>
            <a:br>
              <a:rPr sz="1000"/>
            </a:br>
            <a:r>
              <a:rPr b="0" lang="en-US" sz="1000" spc="-1" strike="noStrike">
                <a:solidFill>
                  <a:srgbClr val="000000"/>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Solar becomes competitive with coal at about 10 cents per kilowatt hour, even without a carbon tax or other instruments to take into account the social cost of coal. This cost is more or less being reached this year commercially. But installed solar PV can be up to 60c per kWh due to high demand for units disconnecting price from production cost.</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Geothermal potential is huge, though there are technical difficulties to overcome. (See slide for US potential). Commercially there are electricity generating plants and heat recovery plants. Domestically there are wells and earth tubes for space heating.</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Large river dam projects are largely out of favor (see later lesson). But there is still huge of potential from river energy, tidal and wave power.</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Resources: Plan B offers a very bold plan stabilize climate through switching to renewables. See slides:</a:t>
            </a:r>
            <a:r>
              <a:rPr b="1" lang="en-US" sz="1000" spc="-1" strike="noStrike">
                <a:solidFill>
                  <a:srgbClr val="ffff99"/>
                </a:solidFill>
                <a:latin typeface="Times New Roman"/>
              </a:rPr>
              <a:t> </a:t>
            </a:r>
            <a:r>
              <a:rPr b="0" lang="en-US" sz="1000" spc="-1" strike="noStrike">
                <a:solidFill>
                  <a:srgbClr val="ffff99"/>
                </a:solidFill>
                <a:latin typeface="Times New Roman"/>
              </a:rPr>
              <a:t>Electricity CO2 footprints from different fuels; Biofuel crop yields; Geothermal potential in the US, Wind potential in US; Water for energy. </a:t>
            </a:r>
            <a:endParaRPr b="0" lang="en-US" sz="1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bundance</a:t>
            </a:r>
            <a:endParaRPr b="0" lang="en-US" sz="4400" spc="-1" strike="noStrike">
              <a:solidFill>
                <a:srgbClr val="ffff99"/>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C2</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solation in just 25,000 square miles of the Sahara would meet global electricity nee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than 1% of global winds, if harnessed, would meet today’s global electricity demand.</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22:35Z</dcterms:created>
  <dc:creator>Admin</dc:creator>
  <dc:description/>
  <dc:language>en-US</dc:language>
  <cp:lastModifiedBy>Admin</cp:lastModifiedBy>
  <dcterms:modified xsi:type="dcterms:W3CDTF">2011-11-21T22:55:16Z</dcterms:modified>
  <cp:revision>5</cp:revision>
  <dc:subject/>
  <dc:title>Energy and Climate</dc:title>
</cp:coreProperties>
</file>