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0"/>
            <a:ext cx="3152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145040" y="0"/>
            <a:ext cx="3152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260000" y="720720"/>
            <a:ext cx="477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467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0" y="9101160"/>
            <a:ext cx="3152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4144680" y="9121320"/>
            <a:ext cx="3151080" cy="460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37A7D775-167D-414C-BEE5-9014A545BFA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7"/>
          <p:cNvSpPr/>
          <p:nvPr/>
        </p:nvSpPr>
        <p:spPr>
          <a:xfrm>
            <a:off x="4145040" y="9121680"/>
            <a:ext cx="315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BB54E580-664F-4F28-8D01-9C36D05811C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145040" y="9121680"/>
            <a:ext cx="315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82760"/>
                <a:tab algn="l" pos="966960"/>
                <a:tab algn="l" pos="1449360"/>
                <a:tab algn="l" pos="1933560"/>
                <a:tab algn="l" pos="2416320"/>
                <a:tab algn="l" pos="2900520"/>
                <a:tab algn="l" pos="3382920"/>
                <a:tab algn="l" pos="3867120"/>
                <a:tab algn="l" pos="4349880"/>
                <a:tab algn="l" pos="4832280"/>
                <a:tab algn="l" pos="5316480"/>
                <a:tab algn="l" pos="5799240"/>
                <a:tab algn="l" pos="6283440"/>
                <a:tab algn="l" pos="6765840"/>
                <a:tab algn="l" pos="7250040"/>
                <a:tab algn="l" pos="7732800"/>
                <a:tab algn="l" pos="8217000"/>
                <a:tab algn="l" pos="8699400"/>
                <a:tab algn="l" pos="9182160"/>
                <a:tab algn="l" pos="9666360"/>
                <a:tab algn="l" pos="10134720"/>
                <a:tab algn="l" pos="10617120"/>
              </a:tabLst>
            </a:pPr>
            <a:fld id="{90632CC9-B723-482A-9E10-14632AD030E3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481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7103-40A5-4A2B-A67F-0E2D97AD6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E68F-5F52-45D6-B48D-87279C51C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7F08-9357-4C0C-A0EB-287B9452C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768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920" y="198108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768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920" y="4121640"/>
            <a:ext cx="2496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1FCE-6014-4631-B773-0F84BCF6F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2ABC-2413-4540-BE9C-5D8DEBF98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C46E-3197-4D4F-903B-318C2F730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9491-F3C1-4FE2-9B07-E6B9099DF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5DDE-C9CA-4BEB-BD1E-2A3427178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54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E024-7A08-4B92-8858-8E236C8AD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CFE8-1FCC-4BB3-B058-275E18E6D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2164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0496-4874-4D44-8912-D80A06734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81080"/>
            <a:ext cx="37839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1640"/>
            <a:ext cx="775476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457F-DC4E-41D6-A91C-2B1FF2343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54760" cy="11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4760" cy="40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889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800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C36E7-CCDC-4149-82CF-DF360CA9A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12"/>
          <p:cNvSpPr/>
          <p:nvPr/>
        </p:nvSpPr>
        <p:spPr>
          <a:xfrm>
            <a:off x="0" y="5943600"/>
            <a:ext cx="9144000" cy="1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1143000" y="58672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646520" y="5867280"/>
            <a:ext cx="15264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04920" y="17208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80"/>
                </a:solidFill>
                <a:latin typeface="Times New Roman"/>
              </a:rPr>
              <a:t>T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990720" y="-1112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AutoShape 30"/>
          <p:cNvSpPr/>
          <p:nvPr/>
        </p:nvSpPr>
        <p:spPr>
          <a:xfrm>
            <a:off x="6858000" y="914400"/>
            <a:ext cx="1828800" cy="533520"/>
          </a:xfrm>
          <a:prstGeom prst="leftArrow">
            <a:avLst>
              <a:gd name="adj1" fmla="val 50000"/>
              <a:gd name="adj2" fmla="val 85695"/>
            </a:avLst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Nation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31"/>
          <p:cNvSpPr/>
          <p:nvPr/>
        </p:nvSpPr>
        <p:spPr>
          <a:xfrm>
            <a:off x="8305920" y="990720"/>
            <a:ext cx="685800" cy="5562360"/>
          </a:xfrm>
          <a:prstGeom prst="upArrow">
            <a:avLst>
              <a:gd name="adj1" fmla="val 50000"/>
              <a:gd name="adj2" fmla="val 202769"/>
            </a:avLst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6324480" y="1523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7467480" y="5715000"/>
            <a:ext cx="16765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57200" y="6108840"/>
            <a:ext cx="1295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Pure Field of Creative  Intelligenc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th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Home of All Impulses of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Times New Roman"/>
              </a:rPr>
              <a:t>Creative Intelligence – the </a:t>
            </a: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evatas –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Supportive Laws of Natur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4038480" y="6019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1066680" y="6180480"/>
            <a:ext cx="480060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</a:rPr>
              <a:t>UNIFIED FIELD  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1" name="AutoShape 48"/>
          <p:cNvCxnSpPr/>
          <p:nvPr/>
        </p:nvCxnSpPr>
        <p:spPr>
          <a:xfrm flipV="1">
            <a:off x="1219320" y="1828440"/>
            <a:ext cx="915120" cy="411552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2" name="AutoShape 49"/>
          <p:cNvCxnSpPr/>
          <p:nvPr/>
        </p:nvCxnSpPr>
        <p:spPr>
          <a:xfrm flipH="1" flipV="1">
            <a:off x="228240" y="1948680"/>
            <a:ext cx="991440" cy="40251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73" name="Line 50"/>
          <p:cNvSpPr/>
          <p:nvPr/>
        </p:nvSpPr>
        <p:spPr>
          <a:xfrm>
            <a:off x="8153280" y="5791320"/>
            <a:ext cx="18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78"/>
          <p:cNvSpPr/>
          <p:nvPr/>
        </p:nvSpPr>
        <p:spPr>
          <a:xfrm>
            <a:off x="4399200" y="838800"/>
            <a:ext cx="6944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" spc="-1" strike="noStrike">
                <a:solidFill>
                  <a:srgbClr val="000080"/>
                </a:solidFill>
                <a:latin typeface="Times New Roman"/>
              </a:rPr>
              <a:t>HEADS OF ST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Oval 79"/>
          <p:cNvSpPr/>
          <p:nvPr/>
        </p:nvSpPr>
        <p:spPr>
          <a:xfrm>
            <a:off x="4648320" y="990720"/>
            <a:ext cx="75960" cy="75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2436840" y="1219320"/>
            <a:ext cx="4343400" cy="4572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81"/>
          <p:cNvSpPr/>
          <p:nvPr/>
        </p:nvSpPr>
        <p:spPr>
          <a:xfrm>
            <a:off x="2743200" y="121932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Bringing fulfilment to all area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society administered by govern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" name="AutoShape 86"/>
          <p:cNvCxnSpPr/>
          <p:nvPr/>
        </p:nvCxnSpPr>
        <p:spPr>
          <a:xfrm>
            <a:off x="4647960" y="1066680"/>
            <a:ext cx="2293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79" name="AutoShape 87"/>
          <p:cNvCxnSpPr/>
          <p:nvPr/>
        </p:nvCxnSpPr>
        <p:spPr>
          <a:xfrm>
            <a:off x="4647960" y="1066680"/>
            <a:ext cx="61020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0" name="AutoShape 88"/>
          <p:cNvCxnSpPr/>
          <p:nvPr/>
        </p:nvCxnSpPr>
        <p:spPr>
          <a:xfrm>
            <a:off x="4647960" y="1066680"/>
            <a:ext cx="114372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81" name="AutoShape 89"/>
          <p:cNvCxnSpPr/>
          <p:nvPr/>
        </p:nvCxnSpPr>
        <p:spPr>
          <a:xfrm>
            <a:off x="4647960" y="1066680"/>
            <a:ext cx="2057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82" name="Text Box 170"/>
          <p:cNvSpPr/>
          <p:nvPr/>
        </p:nvSpPr>
        <p:spPr>
          <a:xfrm>
            <a:off x="7358040" y="6324480"/>
            <a:ext cx="155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Natural La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05"/>
          <p:cNvSpPr/>
          <p:nvPr/>
        </p:nvSpPr>
        <p:spPr>
          <a:xfrm>
            <a:off x="4724280" y="4952880"/>
            <a:ext cx="182880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The experience of Vasudaiva Kutumbakam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Creativity . Intelligence . Intuition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iscernment . Integrity . Commitment . Persistenc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Wisdom . Integrated Individual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and Collective Consciousnes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Straight Connector 179"/>
          <p:cNvSpPr/>
          <p:nvPr/>
        </p:nvSpPr>
        <p:spPr>
          <a:xfrm flipH="1">
            <a:off x="4722840" y="5715000"/>
            <a:ext cx="1440" cy="73080"/>
          </a:xfrm>
          <a:prstGeom prst="line">
            <a:avLst/>
          </a:prstGeom>
          <a:ln w="9360">
            <a:solidFill>
              <a:srgbClr val="22228b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2"/>
          <p:cNvSpPr/>
          <p:nvPr/>
        </p:nvSpPr>
        <p:spPr>
          <a:xfrm>
            <a:off x="4724280" y="2743200"/>
            <a:ext cx="236232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oherence  Creating Group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Education and empowerment of wome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 Energy Generation . Sustainable water u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lean, Efficient Transport . Large Sustainable Forest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Sustainable Agriculture And  Fisheries . Green Building Practic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Cradle to Cradle design practices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vernment and Corporations action based on sustainable values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6"/>
          <p:cNvSpPr/>
          <p:nvPr/>
        </p:nvSpPr>
        <p:spPr>
          <a:xfrm>
            <a:off x="2819520" y="4343400"/>
            <a:ext cx="190476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traight Connector 209"/>
          <p:cNvSpPr/>
          <p:nvPr/>
        </p:nvSpPr>
        <p:spPr>
          <a:xfrm flipV="1">
            <a:off x="4724280" y="48002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Straight Connector 229"/>
          <p:cNvSpPr/>
          <p:nvPr/>
        </p:nvSpPr>
        <p:spPr>
          <a:xfrm flipV="1">
            <a:off x="4724280" y="25905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2666880" y="556560"/>
            <a:ext cx="3353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GLOBAL SUSTAIN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0" name="AutoShape 89"/>
          <p:cNvCxnSpPr/>
          <p:nvPr/>
        </p:nvCxnSpPr>
        <p:spPr>
          <a:xfrm flipH="1">
            <a:off x="2666160" y="1066680"/>
            <a:ext cx="20631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1" name="AutoShape 89"/>
          <p:cNvCxnSpPr/>
          <p:nvPr/>
        </p:nvCxnSpPr>
        <p:spPr>
          <a:xfrm flipH="1">
            <a:off x="3580560" y="1066680"/>
            <a:ext cx="114876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cxnSp>
        <p:nvCxnSpPr>
          <p:cNvPr id="92" name="AutoShape 86"/>
          <p:cNvCxnSpPr/>
          <p:nvPr/>
        </p:nvCxnSpPr>
        <p:spPr>
          <a:xfrm flipH="1">
            <a:off x="4495320" y="1066680"/>
            <a:ext cx="167040" cy="153360"/>
          </a:xfrm>
          <a:prstGeom prst="straightConnector1">
            <a:avLst/>
          </a:prstGeom>
          <a:ln w="9360">
            <a:solidFill>
              <a:srgbClr val="00008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1195560" y="3244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95560" y="4083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2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19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8"/>
          <p:cNvSpPr/>
          <p:nvPr/>
        </p:nvSpPr>
        <p:spPr>
          <a:xfrm>
            <a:off x="1143000" y="168840"/>
            <a:ext cx="7162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HARISHI  VEDIC  SCIENCE  AND 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traight Connector 209"/>
          <p:cNvSpPr/>
          <p:nvPr/>
        </p:nvSpPr>
        <p:spPr>
          <a:xfrm flipV="1">
            <a:off x="4724280" y="419076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traight Connector 209"/>
          <p:cNvSpPr/>
          <p:nvPr/>
        </p:nvSpPr>
        <p:spPr>
          <a:xfrm flipV="1">
            <a:off x="4724280" y="3428640"/>
            <a:ext cx="0" cy="15228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traight Connector 229"/>
          <p:cNvSpPr/>
          <p:nvPr/>
        </p:nvSpPr>
        <p:spPr>
          <a:xfrm flipV="1">
            <a:off x="4724280" y="1676160"/>
            <a:ext cx="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traight Connector 229"/>
          <p:cNvSpPr/>
          <p:nvPr/>
        </p:nvSpPr>
        <p:spPr>
          <a:xfrm flipH="1" flipV="1">
            <a:off x="3428640" y="1676160"/>
            <a:ext cx="68580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traight Connector 229"/>
          <p:cNvSpPr/>
          <p:nvPr/>
        </p:nvSpPr>
        <p:spPr>
          <a:xfrm flipV="1">
            <a:off x="5257800" y="1676160"/>
            <a:ext cx="380880" cy="228600"/>
          </a:xfrm>
          <a:prstGeom prst="line">
            <a:avLst/>
          </a:prstGeom>
          <a:ln w="9360">
            <a:solidFill>
              <a:srgbClr val="22228b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1540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1540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1540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1540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15400" y="46483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146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304812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4114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1880" y="4724280"/>
            <a:ext cx="0" cy="3812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1880" y="5257800"/>
            <a:ext cx="0" cy="3808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8"/>
          <p:cNvSpPr/>
          <p:nvPr/>
        </p:nvSpPr>
        <p:spPr>
          <a:xfrm>
            <a:off x="6019920" y="533880"/>
            <a:ext cx="2590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 anchorCtr="1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MAHARISHI TECHNOLOGY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OF THE UNIFIED FIEL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4520" y="2362320"/>
            <a:ext cx="22860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ATIONAL LAW HAS ITS BASIS I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2600" cy="695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6019920"/>
            <a:ext cx="27432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TRANSCEND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80"/>
                </a:solidFill>
                <a:latin typeface="Times New Roman"/>
              </a:rPr>
              <a:t>CONSCIOUS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5"/>
          <p:cNvSpPr/>
          <p:nvPr/>
        </p:nvSpPr>
        <p:spPr>
          <a:xfrm>
            <a:off x="3048120" y="4952880"/>
            <a:ext cx="1676160" cy="685800"/>
          </a:xfrm>
          <a:prstGeom prst="rect">
            <a:avLst/>
          </a:prstGeom>
          <a:solidFill>
            <a:srgbClr val="e4fbc5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Qu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f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06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d7f9a9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Understanding sustainability .  Understanding ecosystem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Life-supporting ethical framework . Full Free Information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Education . Green technolog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6"/>
          <p:cNvSpPr/>
          <p:nvPr/>
        </p:nvSpPr>
        <p:spPr>
          <a:xfrm>
            <a:off x="2514600" y="2743200"/>
            <a:ext cx="2209680" cy="685800"/>
          </a:xfrm>
          <a:prstGeom prst="rect">
            <a:avLst/>
          </a:prstGeom>
          <a:solidFill>
            <a:srgbClr val="a5f04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4724280" y="1905120"/>
            <a:ext cx="251460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Vasudhaiva kutumbakam . Humanity Aligned with Natur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World Peace . Stabilized population . Stable climat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Healthy Bio-diversity . Genetic Security . Strong health .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Food and Water Security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Ideal, Sustainable Built Environ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" spc="-1" strike="noStrike">
                <a:solidFill>
                  <a:srgbClr val="000080"/>
                </a:solidFill>
                <a:latin typeface="Times New Roman"/>
              </a:rPr>
              <a:t>Zero Waste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6"/>
          <p:cNvSpPr/>
          <p:nvPr/>
        </p:nvSpPr>
        <p:spPr>
          <a:xfrm>
            <a:off x="2362320" y="1905120"/>
            <a:ext cx="2361960" cy="685800"/>
          </a:xfrm>
          <a:prstGeom prst="rect">
            <a:avLst/>
          </a:prstGeom>
          <a:solidFill>
            <a:srgbClr val="8be612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lob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ustain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92"/>
          <p:cNvSpPr/>
          <p:nvPr/>
        </p:nvSpPr>
        <p:spPr>
          <a:xfrm>
            <a:off x="4724280" y="3581280"/>
            <a:ext cx="221004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Policy based in Sustainable Valu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oup for a government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Universal education . Life-supporting International Aid .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o green fiscal policy . Prevention of market failure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Feed in tariffs . Environmental laws for protecting ecosystems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22228b"/>
                </a:solidFill>
                <a:latin typeface="Times New Roman"/>
              </a:rPr>
              <a:t>Green building codes . R &amp; D incentive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6"/>
          <p:cNvSpPr/>
          <p:nvPr/>
        </p:nvSpPr>
        <p:spPr>
          <a:xfrm>
            <a:off x="2666880" y="3581280"/>
            <a:ext cx="2057400" cy="609840"/>
          </a:xfrm>
          <a:prstGeom prst="rect">
            <a:avLst/>
          </a:prstGeom>
          <a:solidFill>
            <a:srgbClr val="c1f57b"/>
          </a:solidFill>
          <a:ln w="9360">
            <a:solidFill>
              <a:srgbClr val="2222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6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48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791320"/>
            <a:ext cx="0" cy="30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571500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5000"/>
            <a:ext cx="0" cy="533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1905120"/>
            <a:ext cx="6858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not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Times New Roman"/>
              </a:rPr>
              <a:t>Invincibility her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2286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32004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46483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541008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248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14T17:37:35Z</dcterms:modified>
  <cp:revision>77</cp:revision>
  <dc:subject/>
  <dc:title>PowerPoint Presentation</dc:title>
</cp:coreProperties>
</file>