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0"/>
            <a:ext cx="3152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145040" y="0"/>
            <a:ext cx="3152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260000" y="720720"/>
            <a:ext cx="4775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467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0" y="9101160"/>
            <a:ext cx="3152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4144680" y="9121320"/>
            <a:ext cx="3151080" cy="46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0EBE22E6-2E3E-45DE-9872-05FB55A5CDC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7"/>
          <p:cNvSpPr/>
          <p:nvPr/>
        </p:nvSpPr>
        <p:spPr>
          <a:xfrm>
            <a:off x="4145040" y="9121680"/>
            <a:ext cx="3151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8DD02B9F-209B-4E39-8933-7D8BAFDF8AB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145040" y="9121680"/>
            <a:ext cx="3152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262C7CA0-26FC-441F-9FEB-559A89AC839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481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F3D0-3D48-4CD5-816A-84953FB8C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E90F-8114-4698-B44E-CF2070F93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2E7A-629E-4209-B2D4-69CB2E162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68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992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68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992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EC18-386F-4B40-95DE-7690F3A3BF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FE3B-FFFD-4C78-84CF-BB47338922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5416-2AC6-486E-8914-F5271B8B3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EE2E-987B-4199-9597-3CD00BC7F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F454-F095-4FF6-AD3E-EF158605D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54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72EB-7A18-4AAC-B62F-204CD8BC8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178C-B376-4F2E-BAA6-956B21C0A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410D-DD7F-4165-B881-6B0BDC979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C7DC-9897-44B4-8424-293A46A83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889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80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CFFA5-2462-4A55-B414-D8BCD5B05C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12"/>
          <p:cNvSpPr/>
          <p:nvPr/>
        </p:nvSpPr>
        <p:spPr>
          <a:xfrm>
            <a:off x="0" y="5943600"/>
            <a:ext cx="9144000" cy="1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1143000" y="58672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4646520" y="5867280"/>
            <a:ext cx="1526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04920" y="172080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000080"/>
                </a:solidFill>
                <a:latin typeface="Times New Roman"/>
              </a:rPr>
              <a:t>T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990720" y="-11124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AutoShape 30"/>
          <p:cNvSpPr/>
          <p:nvPr/>
        </p:nvSpPr>
        <p:spPr>
          <a:xfrm>
            <a:off x="6858000" y="914400"/>
            <a:ext cx="1828800" cy="533520"/>
          </a:xfrm>
          <a:prstGeom prst="leftArrow">
            <a:avLst>
              <a:gd name="adj1" fmla="val 50000"/>
              <a:gd name="adj2" fmla="val 85695"/>
            </a:avLst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Nation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31"/>
          <p:cNvSpPr/>
          <p:nvPr/>
        </p:nvSpPr>
        <p:spPr>
          <a:xfrm>
            <a:off x="8305920" y="990720"/>
            <a:ext cx="685800" cy="5562360"/>
          </a:xfrm>
          <a:prstGeom prst="upArrow">
            <a:avLst>
              <a:gd name="adj1" fmla="val 50000"/>
              <a:gd name="adj2" fmla="val 202769"/>
            </a:avLst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6324480" y="15238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7467480" y="5715000"/>
            <a:ext cx="1676520" cy="99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457200" y="6108840"/>
            <a:ext cx="1295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Pure Field of Creative  Intelligenc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th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Impulses of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Creative Intelligence – the </a:t>
            </a: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evatas –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Supportiv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4038480" y="601992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1066680" y="6180480"/>
            <a:ext cx="480060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UNIFIED FIELD  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1" name="AutoShape 48"/>
          <p:cNvCxnSpPr/>
          <p:nvPr/>
        </p:nvCxnSpPr>
        <p:spPr>
          <a:xfrm flipV="1">
            <a:off x="1219320" y="1828440"/>
            <a:ext cx="915120" cy="411552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2" name="AutoShape 49"/>
          <p:cNvCxnSpPr/>
          <p:nvPr/>
        </p:nvCxnSpPr>
        <p:spPr>
          <a:xfrm flipH="1" flipV="1">
            <a:off x="228240" y="1948680"/>
            <a:ext cx="991440" cy="40251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73" name="Line 50"/>
          <p:cNvSpPr/>
          <p:nvPr/>
        </p:nvSpPr>
        <p:spPr>
          <a:xfrm>
            <a:off x="8153280" y="5791320"/>
            <a:ext cx="1800" cy="1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78"/>
          <p:cNvSpPr/>
          <p:nvPr/>
        </p:nvSpPr>
        <p:spPr>
          <a:xfrm>
            <a:off x="4399200" y="838800"/>
            <a:ext cx="6944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" spc="-1" strike="noStrike">
                <a:solidFill>
                  <a:srgbClr val="000080"/>
                </a:solidFill>
                <a:latin typeface="Times New Roman"/>
              </a:rPr>
              <a:t>HEADS OF ST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79"/>
          <p:cNvSpPr/>
          <p:nvPr/>
        </p:nvSpPr>
        <p:spPr>
          <a:xfrm>
            <a:off x="4648320" y="990720"/>
            <a:ext cx="7596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0"/>
          <p:cNvSpPr/>
          <p:nvPr/>
        </p:nvSpPr>
        <p:spPr>
          <a:xfrm>
            <a:off x="2436840" y="1219320"/>
            <a:ext cx="4343400" cy="457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81"/>
          <p:cNvSpPr/>
          <p:nvPr/>
        </p:nvSpPr>
        <p:spPr>
          <a:xfrm>
            <a:off x="2743200" y="121932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Bringing fulfilment to all area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society administered by govern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" name="AutoShape 86"/>
          <p:cNvCxnSpPr/>
          <p:nvPr/>
        </p:nvCxnSpPr>
        <p:spPr>
          <a:xfrm>
            <a:off x="4647960" y="1066680"/>
            <a:ext cx="2293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9" name="AutoShape 87"/>
          <p:cNvCxnSpPr/>
          <p:nvPr/>
        </p:nvCxnSpPr>
        <p:spPr>
          <a:xfrm>
            <a:off x="4647960" y="1066680"/>
            <a:ext cx="61020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0" name="AutoShape 88"/>
          <p:cNvCxnSpPr/>
          <p:nvPr/>
        </p:nvCxnSpPr>
        <p:spPr>
          <a:xfrm>
            <a:off x="4647960" y="1066680"/>
            <a:ext cx="11437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1" name="AutoShape 89"/>
          <p:cNvCxnSpPr/>
          <p:nvPr/>
        </p:nvCxnSpPr>
        <p:spPr>
          <a:xfrm>
            <a:off x="4647960" y="1066680"/>
            <a:ext cx="2057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82" name="Text Box 170"/>
          <p:cNvSpPr/>
          <p:nvPr/>
        </p:nvSpPr>
        <p:spPr>
          <a:xfrm>
            <a:off x="7358040" y="6324480"/>
            <a:ext cx="155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Natur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05"/>
          <p:cNvSpPr/>
          <p:nvPr/>
        </p:nvSpPr>
        <p:spPr>
          <a:xfrm>
            <a:off x="4724280" y="4952880"/>
            <a:ext cx="182880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The experience of Vasudaiva Kutumbakam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Creativity . Intelligence . Intuition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iscernment . Integrity . Commitment . Persistenc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Wisdom . Integrated Individual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and Collective Consciousnes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Straight Connector 179"/>
          <p:cNvSpPr/>
          <p:nvPr/>
        </p:nvSpPr>
        <p:spPr>
          <a:xfrm flipH="1">
            <a:off x="4722840" y="5715000"/>
            <a:ext cx="1440" cy="73080"/>
          </a:xfrm>
          <a:prstGeom prst="line">
            <a:avLst/>
          </a:prstGeom>
          <a:ln w="9360">
            <a:solidFill>
              <a:srgbClr val="22228b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92"/>
          <p:cNvSpPr/>
          <p:nvPr/>
        </p:nvSpPr>
        <p:spPr>
          <a:xfrm>
            <a:off x="4724280" y="2743200"/>
            <a:ext cx="236232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oherence  Creating Group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Education and empowerment of wome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 Energy Generation . Sustainable water u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, Efficient Transport . Large Sustainable Forest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Sustainable Agriculture And  Fisheries . Green Building Practic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radle to Cradle design practices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vernment and Corporations action based on sustainable values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206"/>
          <p:cNvSpPr/>
          <p:nvPr/>
        </p:nvSpPr>
        <p:spPr>
          <a:xfrm>
            <a:off x="2819520" y="4343400"/>
            <a:ext cx="190476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Straight Connector 209"/>
          <p:cNvSpPr/>
          <p:nvPr/>
        </p:nvSpPr>
        <p:spPr>
          <a:xfrm flipV="1">
            <a:off x="4724280" y="48002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Straight Connector 229"/>
          <p:cNvSpPr/>
          <p:nvPr/>
        </p:nvSpPr>
        <p:spPr>
          <a:xfrm flipV="1">
            <a:off x="4724280" y="25905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8"/>
          <p:cNvSpPr/>
          <p:nvPr/>
        </p:nvSpPr>
        <p:spPr>
          <a:xfrm>
            <a:off x="2666880" y="556560"/>
            <a:ext cx="3353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GLOBAL SUSTAIN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0" name="AutoShape 89"/>
          <p:cNvCxnSpPr/>
          <p:nvPr/>
        </p:nvCxnSpPr>
        <p:spPr>
          <a:xfrm flipH="1">
            <a:off x="2666160" y="1066680"/>
            <a:ext cx="20631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1" name="AutoShape 89"/>
          <p:cNvCxnSpPr/>
          <p:nvPr/>
        </p:nvCxnSpPr>
        <p:spPr>
          <a:xfrm flipH="1">
            <a:off x="3580560" y="1066680"/>
            <a:ext cx="1148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2" name="AutoShape 86"/>
          <p:cNvCxnSpPr/>
          <p:nvPr/>
        </p:nvCxnSpPr>
        <p:spPr>
          <a:xfrm flipH="1">
            <a:off x="4495320" y="1066680"/>
            <a:ext cx="16704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1195560" y="3244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95560" y="4083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22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6019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8"/>
          <p:cNvSpPr/>
          <p:nvPr/>
        </p:nvSpPr>
        <p:spPr>
          <a:xfrm>
            <a:off x="1143000" y="168840"/>
            <a:ext cx="71629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AHARISHI  VEDIC  SCIENCE  AND 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traight Connector 209"/>
          <p:cNvSpPr/>
          <p:nvPr/>
        </p:nvSpPr>
        <p:spPr>
          <a:xfrm flipV="1">
            <a:off x="4724280" y="41907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09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29"/>
          <p:cNvSpPr/>
          <p:nvPr/>
        </p:nvSpPr>
        <p:spPr>
          <a:xfrm flipV="1">
            <a:off x="4724280" y="1676160"/>
            <a:ext cx="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229"/>
          <p:cNvSpPr/>
          <p:nvPr/>
        </p:nvSpPr>
        <p:spPr>
          <a:xfrm flipH="1" flipV="1">
            <a:off x="3428640" y="1676160"/>
            <a:ext cx="68580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traight Connector 229"/>
          <p:cNvSpPr/>
          <p:nvPr/>
        </p:nvSpPr>
        <p:spPr>
          <a:xfrm flipV="1">
            <a:off x="5257800" y="1676160"/>
            <a:ext cx="38088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1540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1540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1540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91540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15400" y="46483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188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188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188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1880" y="4724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78"/>
          <p:cNvSpPr/>
          <p:nvPr/>
        </p:nvSpPr>
        <p:spPr>
          <a:xfrm>
            <a:off x="6019920" y="533880"/>
            <a:ext cx="25905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MAHARISHI TECHNOLOG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F THE UNIFIED FIEL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4520" y="2362320"/>
            <a:ext cx="2286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ATIONAL LAW HAS ITS BASIS 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2600" cy="695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8320" y="6019920"/>
            <a:ext cx="27432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TRANSCEND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CONSCIOUS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5"/>
          <p:cNvSpPr/>
          <p:nvPr/>
        </p:nvSpPr>
        <p:spPr>
          <a:xfrm>
            <a:off x="3048120" y="4952880"/>
            <a:ext cx="167616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Qual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f m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06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Understanding sustainability .  Understanding ecosystem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Life-supporting ethical framework . Full Free Information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Education . Green technolog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06"/>
          <p:cNvSpPr/>
          <p:nvPr/>
        </p:nvSpPr>
        <p:spPr>
          <a:xfrm>
            <a:off x="2514600" y="2743200"/>
            <a:ext cx="220968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92"/>
          <p:cNvSpPr/>
          <p:nvPr/>
        </p:nvSpPr>
        <p:spPr>
          <a:xfrm>
            <a:off x="4724280" y="1905120"/>
            <a:ext cx="251460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Vasudhaiva kutumbakam . Humanity Aligned with Natur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World Peace . Stabilized population . Stable clim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Healthy Bio-diversity . Genetic Security . Strong health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Food and Water Securit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Ideal, Sustainable Built Environ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Zero Wast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06"/>
          <p:cNvSpPr/>
          <p:nvPr/>
        </p:nvSpPr>
        <p:spPr>
          <a:xfrm>
            <a:off x="2362320" y="1905120"/>
            <a:ext cx="236196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lob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stain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92"/>
          <p:cNvSpPr/>
          <p:nvPr/>
        </p:nvSpPr>
        <p:spPr>
          <a:xfrm>
            <a:off x="4724280" y="3581280"/>
            <a:ext cx="221004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Policy based in Sustainable Valu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oup for a government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Universal education . Life-supporting International Aid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 green fiscal policy . Prevention of market failure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Feed in tariffs . Environmental laws for protecting ecosystem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een building codes . R &amp; D incentiv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06"/>
          <p:cNvSpPr/>
          <p:nvPr/>
        </p:nvSpPr>
        <p:spPr>
          <a:xfrm>
            <a:off x="2666880" y="3581280"/>
            <a:ext cx="205740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6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48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5715000"/>
            <a:ext cx="0" cy="457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715000"/>
            <a:ext cx="0" cy="533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1905120"/>
            <a:ext cx="685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22860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32004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3962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46483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541008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6248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4T17:37:35Z</dcterms:modified>
  <cp:revision>77</cp:revision>
  <dc:subject/>
  <dc:title>PowerPoint Presentation</dc:title>
</cp:coreProperties>
</file>