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0"/>
            <a:ext cx="3152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4145040" y="0"/>
            <a:ext cx="3152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260000" y="720720"/>
            <a:ext cx="4775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4672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0" y="9101160"/>
            <a:ext cx="3152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2"/>
          </p:nvPr>
        </p:nvSpPr>
        <p:spPr>
          <a:xfrm>
            <a:off x="4144680" y="9121320"/>
            <a:ext cx="3151080" cy="46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</a:pPr>
            <a:fld id="{6E5CCE8B-2285-48A5-A65F-5E57883A3D13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7"/>
          <p:cNvSpPr/>
          <p:nvPr/>
        </p:nvSpPr>
        <p:spPr>
          <a:xfrm>
            <a:off x="4145040" y="9121680"/>
            <a:ext cx="3151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</a:pPr>
            <a:fld id="{977C78C8-4F40-4E13-B712-4EBF053E0499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145040" y="9121680"/>
            <a:ext cx="3152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</a:pPr>
            <a:fld id="{2CFE1AB1-A8BF-41CC-B021-FF1E828B74ED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481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BA53-DF28-43D2-954E-F71A9A365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47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1640"/>
            <a:ext cx="77547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EAD8-C992-49A2-A6EC-4620E861C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12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EF71-090D-446C-9DA6-6C6B7E1B0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7680" y="198108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9920" y="198108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164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7680" y="412164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9920" y="412164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A78F2-C64A-44A3-A2D9-3E93D6470F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47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C0EC-784B-4378-9E7B-AFE9F6413F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47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F333-5CC6-43B9-8074-9289958A3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C7A2-388E-481D-AA80-79901D2B4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174B-A8E7-4C50-9292-8E15E018A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547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16E6-5134-44E0-93A3-F301FFC36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721B-F010-4ECA-BFDE-435EC069F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12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6ACA-4CBC-47B2-AA23-3C8C55626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1640"/>
            <a:ext cx="77547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1DCE-0063-4558-BFF4-331B7F558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547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8892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800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662C8-259C-4427-A379-5190A0E87E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12"/>
          <p:cNvSpPr/>
          <p:nvPr/>
        </p:nvSpPr>
        <p:spPr>
          <a:xfrm>
            <a:off x="0" y="5943600"/>
            <a:ext cx="9144000" cy="1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1143000" y="5867280"/>
            <a:ext cx="15228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Oval 14"/>
          <p:cNvSpPr/>
          <p:nvPr/>
        </p:nvSpPr>
        <p:spPr>
          <a:xfrm>
            <a:off x="4646520" y="5867280"/>
            <a:ext cx="15264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304920" y="1720800"/>
            <a:ext cx="18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000080"/>
                </a:solidFill>
                <a:latin typeface="Times New Roman"/>
              </a:rPr>
              <a:t>TM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990720" y="-111240"/>
            <a:ext cx="3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AutoShape 30"/>
          <p:cNvSpPr/>
          <p:nvPr/>
        </p:nvSpPr>
        <p:spPr>
          <a:xfrm>
            <a:off x="6858000" y="914400"/>
            <a:ext cx="1828800" cy="533520"/>
          </a:xfrm>
          <a:prstGeom prst="leftArrow">
            <a:avLst>
              <a:gd name="adj1" fmla="val 50000"/>
              <a:gd name="adj2" fmla="val 85695"/>
            </a:avLst>
          </a:prstGeom>
          <a:solidFill>
            <a:srgbClr val="ff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National La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31"/>
          <p:cNvSpPr/>
          <p:nvPr/>
        </p:nvSpPr>
        <p:spPr>
          <a:xfrm>
            <a:off x="8305920" y="990720"/>
            <a:ext cx="685800" cy="5562360"/>
          </a:xfrm>
          <a:prstGeom prst="upArrow">
            <a:avLst>
              <a:gd name="adj1" fmla="val 50000"/>
              <a:gd name="adj2" fmla="val 202769"/>
            </a:avLst>
          </a:prstGeom>
          <a:gradFill rotWithShape="0">
            <a:gsLst>
              <a:gs pos="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34"/>
          <p:cNvSpPr/>
          <p:nvPr/>
        </p:nvSpPr>
        <p:spPr>
          <a:xfrm>
            <a:off x="6324480" y="15238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AutoShape 39"/>
          <p:cNvSpPr/>
          <p:nvPr/>
        </p:nvSpPr>
        <p:spPr>
          <a:xfrm>
            <a:off x="7467480" y="5715000"/>
            <a:ext cx="1676520" cy="990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40"/>
          <p:cNvSpPr/>
          <p:nvPr/>
        </p:nvSpPr>
        <p:spPr>
          <a:xfrm>
            <a:off x="457200" y="6108840"/>
            <a:ext cx="1295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Pure Field of Creative  Intelligenc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Home of All the Laws of Natu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Home of All Impulses of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Creative Intelligence – the </a:t>
            </a: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devatas –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Supportive Laws of Natu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41"/>
          <p:cNvSpPr/>
          <p:nvPr/>
        </p:nvSpPr>
        <p:spPr>
          <a:xfrm>
            <a:off x="4038480" y="6019920"/>
            <a:ext cx="99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2"/>
          <p:cNvSpPr/>
          <p:nvPr/>
        </p:nvSpPr>
        <p:spPr>
          <a:xfrm>
            <a:off x="1066680" y="6180480"/>
            <a:ext cx="480060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UNIFIED FIELD  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1" name="AutoShape 48"/>
          <p:cNvCxnSpPr/>
          <p:nvPr/>
        </p:nvCxnSpPr>
        <p:spPr>
          <a:xfrm flipV="1">
            <a:off x="1219320" y="1828440"/>
            <a:ext cx="915120" cy="411552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72" name="AutoShape 49"/>
          <p:cNvCxnSpPr/>
          <p:nvPr/>
        </p:nvCxnSpPr>
        <p:spPr>
          <a:xfrm flipH="1" flipV="1">
            <a:off x="228240" y="1948680"/>
            <a:ext cx="991440" cy="40251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sp>
        <p:nvSpPr>
          <p:cNvPr id="73" name="Line 50"/>
          <p:cNvSpPr/>
          <p:nvPr/>
        </p:nvSpPr>
        <p:spPr>
          <a:xfrm>
            <a:off x="8153280" y="5791320"/>
            <a:ext cx="1800" cy="14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78"/>
          <p:cNvSpPr/>
          <p:nvPr/>
        </p:nvSpPr>
        <p:spPr>
          <a:xfrm>
            <a:off x="4399200" y="838800"/>
            <a:ext cx="69444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" spc="-1" strike="noStrike">
                <a:solidFill>
                  <a:srgbClr val="000080"/>
                </a:solidFill>
                <a:latin typeface="Times New Roman"/>
              </a:rPr>
              <a:t>HEADS OF STAT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Oval 79"/>
          <p:cNvSpPr/>
          <p:nvPr/>
        </p:nvSpPr>
        <p:spPr>
          <a:xfrm>
            <a:off x="4648320" y="990720"/>
            <a:ext cx="75960" cy="75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80"/>
          <p:cNvSpPr/>
          <p:nvPr/>
        </p:nvSpPr>
        <p:spPr>
          <a:xfrm>
            <a:off x="2436840" y="1219320"/>
            <a:ext cx="4343400" cy="4572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81"/>
          <p:cNvSpPr/>
          <p:nvPr/>
        </p:nvSpPr>
        <p:spPr>
          <a:xfrm>
            <a:off x="2743200" y="1219320"/>
            <a:ext cx="419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Bringing fulfilment to all area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society administered by governmen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8" name="AutoShape 86"/>
          <p:cNvCxnSpPr/>
          <p:nvPr/>
        </p:nvCxnSpPr>
        <p:spPr>
          <a:xfrm>
            <a:off x="4647960" y="1066680"/>
            <a:ext cx="22932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79" name="AutoShape 87"/>
          <p:cNvCxnSpPr/>
          <p:nvPr/>
        </p:nvCxnSpPr>
        <p:spPr>
          <a:xfrm>
            <a:off x="4647960" y="1066680"/>
            <a:ext cx="61020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80" name="AutoShape 88"/>
          <p:cNvCxnSpPr/>
          <p:nvPr/>
        </p:nvCxnSpPr>
        <p:spPr>
          <a:xfrm>
            <a:off x="4647960" y="1066680"/>
            <a:ext cx="114372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81" name="AutoShape 89"/>
          <p:cNvCxnSpPr/>
          <p:nvPr/>
        </p:nvCxnSpPr>
        <p:spPr>
          <a:xfrm>
            <a:off x="4647960" y="1066680"/>
            <a:ext cx="205776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sp>
        <p:nvSpPr>
          <p:cNvPr id="82" name="Text Box 170"/>
          <p:cNvSpPr/>
          <p:nvPr/>
        </p:nvSpPr>
        <p:spPr>
          <a:xfrm>
            <a:off x="7358040" y="6324480"/>
            <a:ext cx="155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Natural La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105"/>
          <p:cNvSpPr/>
          <p:nvPr/>
        </p:nvSpPr>
        <p:spPr>
          <a:xfrm>
            <a:off x="4724280" y="4952880"/>
            <a:ext cx="1828800" cy="685800"/>
          </a:xfrm>
          <a:prstGeom prst="rect">
            <a:avLst/>
          </a:prstGeom>
          <a:solidFill>
            <a:srgbClr val="e4fbc5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The experience of Vasudaiva Kutumbakam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Creativity . Intelligence . Intuition 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Discernment . Integrity . Commitment . Persistence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Wisdom . Integrated Individual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and Collective Consciousnes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Straight Connector 179"/>
          <p:cNvSpPr/>
          <p:nvPr/>
        </p:nvSpPr>
        <p:spPr>
          <a:xfrm flipH="1">
            <a:off x="4722840" y="5715000"/>
            <a:ext cx="1440" cy="73080"/>
          </a:xfrm>
          <a:prstGeom prst="line">
            <a:avLst/>
          </a:prstGeom>
          <a:ln w="9360">
            <a:solidFill>
              <a:srgbClr val="22228b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192"/>
          <p:cNvSpPr/>
          <p:nvPr/>
        </p:nvSpPr>
        <p:spPr>
          <a:xfrm>
            <a:off x="4724280" y="2743200"/>
            <a:ext cx="2362320" cy="685800"/>
          </a:xfrm>
          <a:prstGeom prst="rect">
            <a:avLst/>
          </a:prstGeom>
          <a:solidFill>
            <a:srgbClr val="a5f04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oherence  Creating Group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Education and empowerment of wome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lean Energy Generation . Sustainable water u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lean, Efficient Transport . Large Sustainable Forest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Sustainable Agriculture And  Fisheries . Green Building Practice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radle to Cradle design practices 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overnment and Corporations action based on sustainable values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206"/>
          <p:cNvSpPr/>
          <p:nvPr/>
        </p:nvSpPr>
        <p:spPr>
          <a:xfrm>
            <a:off x="2819520" y="4343400"/>
            <a:ext cx="1904760" cy="457200"/>
          </a:xfrm>
          <a:prstGeom prst="rect">
            <a:avLst/>
          </a:prstGeom>
          <a:solidFill>
            <a:srgbClr val="d7f9a9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Straight Connector 209"/>
          <p:cNvSpPr/>
          <p:nvPr/>
        </p:nvSpPr>
        <p:spPr>
          <a:xfrm flipV="1">
            <a:off x="4724280" y="480024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Straight Connector 229"/>
          <p:cNvSpPr/>
          <p:nvPr/>
        </p:nvSpPr>
        <p:spPr>
          <a:xfrm flipV="1">
            <a:off x="4724280" y="259056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78"/>
          <p:cNvSpPr/>
          <p:nvPr/>
        </p:nvSpPr>
        <p:spPr>
          <a:xfrm>
            <a:off x="2666880" y="556560"/>
            <a:ext cx="3353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GLOBAL SUSTAINA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0" name="AutoShape 89"/>
          <p:cNvCxnSpPr/>
          <p:nvPr/>
        </p:nvCxnSpPr>
        <p:spPr>
          <a:xfrm flipH="1">
            <a:off x="2666160" y="1066680"/>
            <a:ext cx="206316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91" name="AutoShape 89"/>
          <p:cNvCxnSpPr/>
          <p:nvPr/>
        </p:nvCxnSpPr>
        <p:spPr>
          <a:xfrm flipH="1">
            <a:off x="3580560" y="1066680"/>
            <a:ext cx="114876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92" name="AutoShape 86"/>
          <p:cNvCxnSpPr/>
          <p:nvPr/>
        </p:nvCxnSpPr>
        <p:spPr>
          <a:xfrm flipH="1">
            <a:off x="4495320" y="1066680"/>
            <a:ext cx="16704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1195560" y="3244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95560" y="4083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22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60199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78"/>
          <p:cNvSpPr/>
          <p:nvPr/>
        </p:nvSpPr>
        <p:spPr>
          <a:xfrm>
            <a:off x="1143000" y="168840"/>
            <a:ext cx="71629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AHARISHI  VEDIC  SCIENCE  AND 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Straight Connector 209"/>
          <p:cNvSpPr/>
          <p:nvPr/>
        </p:nvSpPr>
        <p:spPr>
          <a:xfrm flipV="1">
            <a:off x="4724280" y="419076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traight Connector 209"/>
          <p:cNvSpPr/>
          <p:nvPr/>
        </p:nvSpPr>
        <p:spPr>
          <a:xfrm flipV="1">
            <a:off x="4724280" y="342864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traight Connector 229"/>
          <p:cNvSpPr/>
          <p:nvPr/>
        </p:nvSpPr>
        <p:spPr>
          <a:xfrm flipV="1">
            <a:off x="4724280" y="1676160"/>
            <a:ext cx="0" cy="22860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Straight Connector 229"/>
          <p:cNvSpPr/>
          <p:nvPr/>
        </p:nvSpPr>
        <p:spPr>
          <a:xfrm flipH="1" flipV="1">
            <a:off x="3428640" y="1676160"/>
            <a:ext cx="685800" cy="22860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Straight Connector 229"/>
          <p:cNvSpPr/>
          <p:nvPr/>
        </p:nvSpPr>
        <p:spPr>
          <a:xfrm flipV="1">
            <a:off x="5257800" y="1676160"/>
            <a:ext cx="380880" cy="22860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15400" y="25146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915400" y="304812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915400" y="3581280"/>
            <a:ext cx="0" cy="3812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915400" y="4114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915400" y="464832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915400" y="5257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1880" y="25146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1880" y="304812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1880" y="3581280"/>
            <a:ext cx="0" cy="38124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1880" y="4114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1880" y="4724280"/>
            <a:ext cx="0" cy="38124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1880" y="5257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78"/>
          <p:cNvSpPr/>
          <p:nvPr/>
        </p:nvSpPr>
        <p:spPr>
          <a:xfrm>
            <a:off x="6019920" y="533880"/>
            <a:ext cx="25905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MAHARISHI TECHNOLOG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OF THE UNIFIED FIEL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34520" y="2362320"/>
            <a:ext cx="2286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ATIONAL LAW HAS ITS BASIS I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552600" cy="695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48320" y="6019920"/>
            <a:ext cx="27432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Times New Roman"/>
              </a:rPr>
              <a:t>TRANSCENDE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80"/>
                </a:solidFill>
                <a:latin typeface="Times New Roman"/>
              </a:rPr>
              <a:t>CONSCIOUS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05"/>
          <p:cNvSpPr/>
          <p:nvPr/>
        </p:nvSpPr>
        <p:spPr>
          <a:xfrm>
            <a:off x="3048120" y="4952880"/>
            <a:ext cx="1676160" cy="685800"/>
          </a:xfrm>
          <a:prstGeom prst="rect">
            <a:avLst/>
          </a:prstGeom>
          <a:solidFill>
            <a:srgbClr val="e4fbc5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Qualit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f mi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06"/>
          <p:cNvSpPr/>
          <p:nvPr/>
        </p:nvSpPr>
        <p:spPr>
          <a:xfrm>
            <a:off x="4724280" y="4343400"/>
            <a:ext cx="2057400" cy="457200"/>
          </a:xfrm>
          <a:prstGeom prst="rect">
            <a:avLst/>
          </a:prstGeom>
          <a:solidFill>
            <a:srgbClr val="d7f9a9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Understanding sustainability .  Understanding ecosystem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Life-supporting ethical framework . Full Free Information .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Education . Green technology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06"/>
          <p:cNvSpPr/>
          <p:nvPr/>
        </p:nvSpPr>
        <p:spPr>
          <a:xfrm>
            <a:off x="2514600" y="2743200"/>
            <a:ext cx="2209680" cy="685800"/>
          </a:xfrm>
          <a:prstGeom prst="rect">
            <a:avLst/>
          </a:prstGeom>
          <a:solidFill>
            <a:srgbClr val="a5f04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92"/>
          <p:cNvSpPr/>
          <p:nvPr/>
        </p:nvSpPr>
        <p:spPr>
          <a:xfrm>
            <a:off x="4724280" y="1905120"/>
            <a:ext cx="2514600" cy="685800"/>
          </a:xfrm>
          <a:prstGeom prst="rect">
            <a:avLst/>
          </a:prstGeom>
          <a:solidFill>
            <a:srgbClr val="8be61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Vasudhaiva kutumbakam . Humanity Aligned with Nature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World Peace . Stabilized population . Stable climat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Healthy Bio-diversity . Genetic Security . Strong health 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Food and Water Security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Ideal, Sustainable Built Environment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Zero Waste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06"/>
          <p:cNvSpPr/>
          <p:nvPr/>
        </p:nvSpPr>
        <p:spPr>
          <a:xfrm>
            <a:off x="2362320" y="1905120"/>
            <a:ext cx="2361960" cy="685800"/>
          </a:xfrm>
          <a:prstGeom prst="rect">
            <a:avLst/>
          </a:prstGeom>
          <a:solidFill>
            <a:srgbClr val="8be61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lob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ustainabi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92"/>
          <p:cNvSpPr/>
          <p:nvPr/>
        </p:nvSpPr>
        <p:spPr>
          <a:xfrm>
            <a:off x="4724280" y="3581280"/>
            <a:ext cx="2210040" cy="609840"/>
          </a:xfrm>
          <a:prstGeom prst="rect">
            <a:avLst/>
          </a:prstGeom>
          <a:solidFill>
            <a:srgbClr val="c1f57b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Policy based in Sustainable Value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roup for a government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Universal education . Life-supporting International Aid .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o green fiscal policy . Prevention of market failures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Feed in tariffs . Environmental laws for protecting ecosystems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reen building codes . R &amp; D incentive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06"/>
          <p:cNvSpPr/>
          <p:nvPr/>
        </p:nvSpPr>
        <p:spPr>
          <a:xfrm>
            <a:off x="2666880" y="3581280"/>
            <a:ext cx="2057400" cy="609840"/>
          </a:xfrm>
          <a:prstGeom prst="rect">
            <a:avLst/>
          </a:prstGeom>
          <a:solidFill>
            <a:srgbClr val="c1f57b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6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488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5715000"/>
            <a:ext cx="0" cy="457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715000"/>
            <a:ext cx="0" cy="533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15200" y="1905120"/>
            <a:ext cx="68580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228600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320040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1520" y="396252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464832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541008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624852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14T17:37:35Z</dcterms:modified>
  <cp:revision>77</cp:revision>
  <dc:subject/>
  <dc:title>PowerPoint Presentation</dc:title>
</cp:coreProperties>
</file>