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8EF2-D2C6-4F1B-9C83-D1378F3F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D73E-AA3E-4FDA-BBAD-7BB12F6D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558D-53CB-4108-A2D8-D6DA7521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A031-C0DF-4741-8EBE-BC1C325D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9EA-D3D6-44E5-B43B-7333856A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985D-D54A-4A51-8EBE-DAA6DD99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F5E0-AC44-4D03-9362-CAA732A2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D13B-3A9F-4B49-91EB-91F7E8D1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7382-BE97-4E51-AC9F-54EFC12F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D81C-A446-440E-9475-5EF6E31B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976B-8496-4049-BFD8-2A9D4676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F9DE-3A00-4291-A36C-70384CD1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0C52-60BF-4D74-ABC8-4C19A5C872A0}" type="slidenum">
              <a:rPr b="0" lang="en-US" sz="1400" spc="-1" strike="noStrike">
                <a:solidFill>
                  <a:srgbClr val="99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sson 3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reative Intelligence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and Abundanc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62120" y="46483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509840" cy="1523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2438280" y="4648320"/>
            <a:ext cx="2362320" cy="1550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4876920" y="4648320"/>
            <a:ext cx="2057400" cy="1541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5"/>
          <a:stretch/>
        </p:blipFill>
        <p:spPr>
          <a:xfrm>
            <a:off x="2286000" y="304920"/>
            <a:ext cx="1981080" cy="1630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"/>
          <p:cNvPicPr/>
          <p:nvPr/>
        </p:nvPicPr>
        <p:blipFill>
          <a:blip r:embed="rId6"/>
          <a:stretch/>
        </p:blipFill>
        <p:spPr>
          <a:xfrm>
            <a:off x="457200" y="304920"/>
            <a:ext cx="1641600" cy="2361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"/>
          <p:cNvPicPr/>
          <p:nvPr/>
        </p:nvPicPr>
        <p:blipFill>
          <a:blip r:embed="rId7"/>
          <a:stretch/>
        </p:blipFill>
        <p:spPr>
          <a:xfrm>
            <a:off x="7010280" y="304920"/>
            <a:ext cx="1676520" cy="2733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"/>
          <p:cNvPicPr/>
          <p:nvPr/>
        </p:nvPicPr>
        <p:blipFill>
          <a:blip r:embed="rId8"/>
          <a:stretch/>
        </p:blipFill>
        <p:spPr>
          <a:xfrm>
            <a:off x="4343400" y="304920"/>
            <a:ext cx="2438280" cy="1622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"/>
          <p:cNvPicPr/>
          <p:nvPr/>
        </p:nvPicPr>
        <p:blipFill>
          <a:blip r:embed="rId9"/>
          <a:stretch/>
        </p:blipFill>
        <p:spPr>
          <a:xfrm>
            <a:off x="7238880" y="3124080"/>
            <a:ext cx="1219320" cy="144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10"/>
          <a:stretch/>
        </p:blipFill>
        <p:spPr>
          <a:xfrm>
            <a:off x="457200" y="2895480"/>
            <a:ext cx="1676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ow many stars in the universe?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160" cy="5076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685800" y="44956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Times New Roman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380880" y="4724280"/>
            <a:ext cx="4419720" cy="195264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m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Nature’s abundance  - done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Everything has its basis in nothing.” 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A machine that has learned to think or consciousness that has built a machine?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Creative Intelligence and Devata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Freewill and determinism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Object referral / self referral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Consciousness and purity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Times New Roman"/>
              </a:rPr>
              <a:t>Unlimited growth</a:t>
            </a: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sudhaiva Kutumbakam</a:t>
            </a:r>
            <a:br>
              <a:rPr sz="4400"/>
            </a:br>
            <a:br>
              <a:rPr sz="18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World is my Family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3962520" cy="209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4876920" y="304920"/>
            <a:ext cx="3124080" cy="2071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3"/>
          <a:stretch/>
        </p:blipFill>
        <p:spPr>
          <a:xfrm>
            <a:off x="622440" y="2514600"/>
            <a:ext cx="2381040" cy="1924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4"/>
          <a:stretch/>
        </p:blipFill>
        <p:spPr>
          <a:xfrm>
            <a:off x="3048120" y="2514600"/>
            <a:ext cx="2209680" cy="1933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5"/>
          <a:stretch/>
        </p:blipFill>
        <p:spPr>
          <a:xfrm>
            <a:off x="5334120" y="2514600"/>
            <a:ext cx="28954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8:13:52Z</dcterms:created>
  <dc:creator>Admin</dc:creator>
  <dc:description/>
  <dc:language>en-US</dc:language>
  <cp:lastModifiedBy>john</cp:lastModifiedBy>
  <dcterms:modified xsi:type="dcterms:W3CDTF">2012-02-05T21:19:09Z</dcterms:modified>
  <cp:revision>12</cp:revision>
  <dc:subject/>
  <dc:title>Lesson 3 Creativity and Abundance</dc:title>
</cp:coreProperties>
</file>