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705-0366-4519-A677-EB160591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79C-7ECF-49AE-916A-3C8A90FF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AD8-BDAD-4D4A-B4DF-F842CF16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0A8-9D66-4A3B-9004-CD4E92BA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26D-2D80-4718-852B-E43AF7C1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70A-0176-4B79-B6D0-D50F7136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6FB-0914-4A63-8AD8-56A995CD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E9C-F67E-4076-A855-A2372525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BD2-FE6E-4630-B46A-24A55DDD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62A-5E41-4582-8298-D69D504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0EF-B730-4F00-9B0E-D64E362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FE6-5176-4996-8BA1-908A28A3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C7E3-D4E6-40AF-AD59-323AE197E459}" type="slidenum"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sson 3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eative Intelligenc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and Abundan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50984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438280" y="4648320"/>
            <a:ext cx="2362320" cy="155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5"/>
          <a:stretch/>
        </p:blipFill>
        <p:spPr>
          <a:xfrm>
            <a:off x="2286000" y="304920"/>
            <a:ext cx="1981080" cy="163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164160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7"/>
          <a:stretch/>
        </p:blipFill>
        <p:spPr>
          <a:xfrm>
            <a:off x="7010280" y="304920"/>
            <a:ext cx="1676520" cy="2733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8"/>
          <a:stretch/>
        </p:blipFill>
        <p:spPr>
          <a:xfrm>
            <a:off x="4343400" y="304920"/>
            <a:ext cx="2438280" cy="162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9"/>
          <a:stretch/>
        </p:blipFill>
        <p:spPr>
          <a:xfrm>
            <a:off x="7238880" y="3124080"/>
            <a:ext cx="121932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10"/>
          <a:stretch/>
        </p:blipFill>
        <p:spPr>
          <a:xfrm>
            <a:off x="457200" y="289548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w many stars in the universe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507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85800" y="44956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4419720" cy="19526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m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Nature’s abundance  - done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Everything has its basis in nothing.” 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A machine that has learned to think or consciousness that has built a machine?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reative Intelligence and Devata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Freewill and determinism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Object referral / self referral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onsciousness and purity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Unlimited growth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sudhaiva Kutumbakam</a:t>
            </a:r>
            <a:br>
              <a:rPr sz="44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World is my Famil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962520" cy="20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124080" cy="207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622440" y="25146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2209680" cy="19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895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8:13:52Z</dcterms:created>
  <dc:creator>Admin</dc:creator>
  <dc:description/>
  <dc:language>en-US</dc:language>
  <cp:lastModifiedBy>john</cp:lastModifiedBy>
  <dcterms:modified xsi:type="dcterms:W3CDTF">2012-02-05T21:19:09Z</dcterms:modified>
  <cp:revision>12</cp:revision>
  <dc:subject/>
  <dc:title>Lesson 3 Creativity and Abundance</dc:title>
</cp:coreProperties>
</file>