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AFC-DD8B-4CC9-85B0-99895C29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8CD-9506-41C5-8F98-DBFEDFE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138-90C9-4DCB-BDD1-7DDF068B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72A-50C7-4542-A5BA-0DA8FC0B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E99-2F7F-4343-BEE8-50118EE5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697-0180-4B22-9A0E-CA49844C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2ED-E01B-481D-AC07-3658955B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116-3DCA-45AB-8D5F-CCBA2BCB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5F6-9A7F-4EF1-ABD9-BB2EC8A7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A99-2DE7-4154-B8E2-037AB38F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D91-6ADA-4C08-A401-1B4D26A4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9F9-4AEE-40D7-AC22-F73A0CEF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9F20-1692-4BB9-A635-7519190D61E9}" type="slidenum"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sson 3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eative Intelligenc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and Abund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50984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438280" y="4648320"/>
            <a:ext cx="236232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2286000" y="304920"/>
            <a:ext cx="1981080" cy="163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164160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1676520" cy="2733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8"/>
          <a:stretch/>
        </p:blipFill>
        <p:spPr>
          <a:xfrm>
            <a:off x="4343400" y="304920"/>
            <a:ext cx="2438280" cy="162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9"/>
          <a:stretch/>
        </p:blipFill>
        <p:spPr>
          <a:xfrm>
            <a:off x="7238880" y="312408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10"/>
          <a:stretch/>
        </p:blipFill>
        <p:spPr>
          <a:xfrm>
            <a:off x="457200" y="289548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w many stars in the universe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507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85800" y="44956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4419720" cy="1952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m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Nature’s abundance  - done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Everything has its basis in nothing.” 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A machine that has learned to think or consciousness that has built a machine?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reative Intelligence and Devata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Freewill and determinism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Object referral / self referral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onsciousness and purity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Unlimited growth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sudhaiva Kutumbakam</a:t>
            </a:r>
            <a:br>
              <a:rPr sz="44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World is my Famil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962520" cy="20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124080" cy="207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622440" y="25146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2209680" cy="19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895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8:13:52Z</dcterms:created>
  <dc:creator>Admin</dc:creator>
  <dc:description/>
  <dc:language>en-US</dc:language>
  <cp:lastModifiedBy>john</cp:lastModifiedBy>
  <dcterms:modified xsi:type="dcterms:W3CDTF">2012-02-05T21:19:09Z</dcterms:modified>
  <cp:revision>12</cp:revision>
  <dc:subject/>
  <dc:title>Lesson 3 Creativity and Abundance</dc:title>
</cp:coreProperties>
</file>