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303-28C3-46FF-AE68-8725D94B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CB7-BE76-42C8-A34B-5C62C37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DBA-7B75-40B4-A83B-E6DDAEBD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125-5A4F-4194-94D4-0A82B934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46C-D48D-48A5-98AA-D2088799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EEB-0BAD-422C-9495-0C436A01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FEB-07BF-41EC-8EB0-A0E7A961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830-6A9F-4F20-9F96-807292E5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30A-8069-4421-AC74-14FE0928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8C7-6912-44A8-8994-11B8E99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11F-815A-4904-9038-D1A0E91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880-BA90-455C-A856-64162A4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23B7-F42A-4676-A298-710BDB97412B}" type="slidenum"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sson 3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eative Intelligenc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and Abund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50984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438280" y="4648320"/>
            <a:ext cx="236232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2286000" y="304920"/>
            <a:ext cx="1981080" cy="163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164160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1676520" cy="2733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8"/>
          <a:stretch/>
        </p:blipFill>
        <p:spPr>
          <a:xfrm>
            <a:off x="4343400" y="304920"/>
            <a:ext cx="2438280" cy="162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9"/>
          <a:stretch/>
        </p:blipFill>
        <p:spPr>
          <a:xfrm>
            <a:off x="7238880" y="312408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10"/>
          <a:stretch/>
        </p:blipFill>
        <p:spPr>
          <a:xfrm>
            <a:off x="457200" y="289548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w many stars in the universe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507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85800" y="44956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4419720" cy="1952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m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Nature’s abundance  - done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Everything has its basis in nothing.” 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A machine that has learned to think or consciousness that has built a machine?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reative Intelligence and Devata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Freewill and determinism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Object referral / self referral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onsciousness and purity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Unlimited growth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sudhaiva Kutumbakam</a:t>
            </a:r>
            <a:br>
              <a:rPr sz="44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World is my Famil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962520" cy="20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124080" cy="207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622440" y="25146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2209680" cy="19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895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8:13:52Z</dcterms:created>
  <dc:creator>Admin</dc:creator>
  <dc:description/>
  <dc:language>en-US</dc:language>
  <cp:lastModifiedBy>john</cp:lastModifiedBy>
  <dcterms:modified xsi:type="dcterms:W3CDTF">2012-02-05T21:19:09Z</dcterms:modified>
  <cp:revision>12</cp:revision>
  <dc:subject/>
  <dc:title>Lesson 3 Creativity and Abundance</dc:title>
</cp:coreProperties>
</file>